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441-1291-4788-9E52-877F3FCC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21C-20CC-4580-A31E-4268628B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AD6-F93A-470C-86FA-8A849BC4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A81-5875-4D01-A70A-01DD1C46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730-D89D-4DFE-BE64-1AD90027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E50-3510-4F3A-8709-028FD10B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556-825C-431F-8943-7B6C5974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C4B-65D9-4BA1-AB42-E7FC9EC7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D3F-FE89-4668-9045-07B2E3F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C1E-22BA-4D35-AA49-995B12F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CC2-27B6-43AC-BE1D-6F5F78E0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943-59FD-4ECC-803A-88A0C16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03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5A8F19-2538-414E-823E-BD3B91E7B4A7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RFC 2460 (von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337-42DE-49D0-AA4B-277ED66A4E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0A4A1-B925-45CD-8E86-472CF1DD822B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199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24360" y="2421000"/>
            <a:ext cx="323856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419640" y="2779560"/>
            <a:ext cx="2952720" cy="20908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E63-4019-41C0-A978-1302BFA6143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96BA6-7AC9-42A0-B180-82DE08407243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221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2421000"/>
            <a:ext cx="323856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19640" y="3571560"/>
            <a:ext cx="2592360" cy="1298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F52-9F39-40D5-BC42-AFE2E4FF83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EDF04-41FF-4CC5-B325-AF64C88D1A5D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243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2421000"/>
            <a:ext cx="323856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09920" y="4869000"/>
            <a:ext cx="3313080" cy="360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56E-1E1A-42D7-A1C5-A5288DCE3D4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6EC01-E6C8-4A1B-9DC1-6B0D4E8DBDAC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265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24360" y="2421000"/>
            <a:ext cx="323856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4869000"/>
            <a:ext cx="215640" cy="288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857-42E0-4D9F-8F60-606B44415A9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6B64D-B52C-410D-9624-F2FD233AE33E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288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781360"/>
            <a:ext cx="2376360" cy="6426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umbenann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EF5-37EC-45CC-9712-D3FDA9543D9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8FCF5-279E-4239-A299-12BCD5F75657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30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2781360"/>
            <a:ext cx="2376360" cy="6426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umbenann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3922560" y="2274840"/>
            <a:ext cx="1082880" cy="5796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9AF-A006-4669-8A12-1078B401E99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B145B-0F5B-43EB-8D8B-9C75A7FF66FB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317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48360" y="2781360"/>
            <a:ext cx="2376360" cy="6426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umbenann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03640" y="2203560"/>
            <a:ext cx="863640" cy="65088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8A4-EC63-4B70-8602-C0816BE55E2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F35BA-3202-4946-9055-9D2DEA255372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33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48360" y="2781360"/>
            <a:ext cx="2376360" cy="6426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umbenann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306864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266560" y="2852640"/>
            <a:ext cx="2738520" cy="4320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6E2-29FD-43E7-A6F2-DAE7E49AEC3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2967B-1A1B-4A89-8447-DFB7CB1072C9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347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48360" y="2781360"/>
            <a:ext cx="2376360" cy="6426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umbenann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306864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425840" y="2852640"/>
            <a:ext cx="579600" cy="4320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252-C06F-47E5-8727-2113DDA4C46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3787B-25F7-4471-B5A9-B6F2DDF375B2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363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602136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306864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5157720"/>
            <a:ext cx="208764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e Position der Header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770-B91C-4686-95D2-821CB3A6C97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772E9-2C85-48C0-97FF-8B0F4C3899B2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360" y="4653000"/>
            <a:ext cx="5400720" cy="1297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7664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1484280"/>
            <a:ext cx="5400720" cy="2016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50028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50068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Layer (IPv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3573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2276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668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 im DoD-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88D-2298-45CC-B7E4-9A5C4822D6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BF6D5-71A1-4D88-8CA2-A437BA3EC5B0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378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602136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08360" y="5157720"/>
            <a:ext cx="208764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e Position der Headerfe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328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946-1AF1-41C2-A476-1AE2E8EE84D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6C659-F213-477B-A4BC-7BE10CA97D0E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393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16000" y="4221000"/>
            <a:ext cx="2519280" cy="78552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e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incl. Po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98A-E62C-4976-8EBC-43A58C4977E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198C8-B668-45D4-AFA5-8A71E805C7AF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408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6000" y="4221000"/>
            <a:ext cx="2519280" cy="78552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e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incl. Po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771640" y="2274840"/>
            <a:ext cx="3168720" cy="18763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6CE-451F-4229-A465-F15343F8AEC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3DDDA-31FA-41F3-A8B0-95DD4397403D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425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16000" y="4221000"/>
            <a:ext cx="2519280" cy="78552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e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incl. Pos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771640" y="2274840"/>
            <a:ext cx="3168720" cy="18763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92360" y="5734080"/>
            <a:ext cx="540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43280" y="5084640"/>
            <a:ext cx="1728720" cy="649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D01-5A07-4E2D-A83D-F9E10D05F05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77C93-9A1F-4494-A331-3EB6F4D7800B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444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6880" y="3716280"/>
            <a:ext cx="863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90560" y="573408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63F-049F-4075-9DA8-CA0864CC602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0C83D-BF68-4142-9715-F7E703FF7F3B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46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6880" y="3716280"/>
            <a:ext cx="863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969480" y="2347920"/>
            <a:ext cx="1731960" cy="29541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55C-8505-4B85-8954-B23FD38AFE5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DFB92-0595-4275-8252-59A57103347A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48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6880" y="3716280"/>
            <a:ext cx="863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700360" y="2274480"/>
            <a:ext cx="431640" cy="30272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1C7-4591-4E94-BEF8-A8D542A38D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8A6C3-9E1F-4DA5-B180-69CB0380CD77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50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6880" y="3716280"/>
            <a:ext cx="863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  (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700360" y="2274480"/>
            <a:ext cx="4103640" cy="30272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B56-8441-408F-9B11-7C410FD5513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CC504-123B-4393-866C-F75D0FA63293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52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4508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6880" y="3716280"/>
            <a:ext cx="863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  (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 (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700360" y="2922480"/>
            <a:ext cx="647640" cy="23796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E8D-0A2B-4713-8E4B-1CAD6FEB83A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8DF42-8BC6-45A9-A407-51983208BB6C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54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0544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6880" y="3716280"/>
            <a:ext cx="863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  (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 (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4328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700360" y="2922480"/>
            <a:ext cx="3672000" cy="23796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3E0-9E18-4A2D-835D-D6997D5521C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EE1CE-AD48-4BFB-A2C8-ACE31E40FC07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4653000"/>
            <a:ext cx="5400720" cy="1297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07664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484280"/>
            <a:ext cx="5400720" cy="2016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350028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50068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Layer (IPv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3573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2276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668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 im DoD-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4543560"/>
            <a:ext cx="136872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5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069-1927-4C2A-970B-C67C35F081A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852A9-1CA1-469F-9B19-22B43EDB80A3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56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6880" y="3716280"/>
            <a:ext cx="863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  (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 (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4328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0400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2922480"/>
            <a:ext cx="5543640" cy="23796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5F1-0A0C-463E-9E80-B5F17BF3031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E5B2F-CFA2-447E-A977-E0045AB77B46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581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  (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 (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4328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0400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4000" y="3068640"/>
            <a:ext cx="8637480" cy="129528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(12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700360" y="3931920"/>
            <a:ext cx="3024000" cy="13698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622-2A79-4731-8D9F-26D6198048E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33D30-E017-4BB3-AD2F-3A43D1C602D1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600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76120" y="993600"/>
            <a:ext cx="87138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4000" y="4365720"/>
            <a:ext cx="8637480" cy="129528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 (12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ion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1280" y="4869000"/>
            <a:ext cx="1942920" cy="642600"/>
          </a:xfrm>
          <a:prstGeom prst="rect">
            <a:avLst/>
          </a:prstGeom>
          <a:solidFill>
            <a:srgbClr val="ffff00"/>
          </a:solidFill>
          <a:ln cap="sq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öße der Felder in 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90560" y="5726160"/>
            <a:ext cx="554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al: weitere Header (ehemals Optionen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03280" y="177336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ffic Class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64000" y="1773360"/>
            <a:ext cx="5398920" cy="647640"/>
          </a:xfrm>
          <a:prstGeom prst="rect">
            <a:avLst/>
          </a:prstGeom>
          <a:solidFill>
            <a:srgbClr val="00cc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ow Label  (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yload Length (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643280" y="2421000"/>
            <a:ext cx="215928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xt Header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804000" y="2421000"/>
            <a:ext cx="2158920" cy="647640"/>
          </a:xfrm>
          <a:prstGeom prst="rect">
            <a:avLst/>
          </a:prstGeom>
          <a:solidFill>
            <a:srgbClr val="00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 Limit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4000" y="3068640"/>
            <a:ext cx="8637480" cy="129528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 (12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700360" y="5227200"/>
            <a:ext cx="1008000" cy="74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900-CA7B-4A44-A3F5-AB34079BF26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DC221-023C-4318-92B3-22377A8356AF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476360" y="4653000"/>
            <a:ext cx="5400720" cy="1297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76360" y="4076640"/>
            <a:ext cx="5400720" cy="576360"/>
          </a:xfrm>
          <a:prstGeom prst="rect">
            <a:avLst/>
          </a:pr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76360" y="1484280"/>
            <a:ext cx="5400720" cy="2016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76360" y="350028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124000" y="50068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4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Layer (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124000" y="3573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68360" y="2276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19280" y="668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 im DoD-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003640" y="4543560"/>
            <a:ext cx="136872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19640" y="45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03640" y="3933720"/>
            <a:ext cx="1368720" cy="287280"/>
          </a:xfrm>
          <a:prstGeom prst="rect">
            <a:avLst/>
          </a:prstGeom>
          <a:solidFill>
            <a:srgbClr val="82e68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48360" y="38829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49E-BE5D-43EB-9B73-42F0C1E14868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0F07F-2115-4D22-B34C-6205652EBEDB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476360" y="4653000"/>
            <a:ext cx="5400720" cy="1297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76360" y="4076640"/>
            <a:ext cx="5400720" cy="576360"/>
          </a:xfrm>
          <a:prstGeom prst="rect">
            <a:avLst/>
          </a:pr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76360" y="1484280"/>
            <a:ext cx="5400720" cy="2016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76360" y="350028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24000" y="50068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24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Layer (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24000" y="3573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68360" y="2276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619280" y="668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 im DoD-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03640" y="4543560"/>
            <a:ext cx="136872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219640" y="45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003640" y="3933720"/>
            <a:ext cx="1368720" cy="287280"/>
          </a:xfrm>
          <a:prstGeom prst="rect">
            <a:avLst/>
          </a:prstGeom>
          <a:solidFill>
            <a:srgbClr val="82e68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48360" y="38736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M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473-BF19-47E8-80F7-C3BE0A25E64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4A1A7-7B3C-42FA-B767-1716D888C615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476360" y="4653000"/>
            <a:ext cx="5400720" cy="1297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476360" y="4076640"/>
            <a:ext cx="5400720" cy="576360"/>
          </a:xfrm>
          <a:prstGeom prst="rect">
            <a:avLst/>
          </a:pr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76360" y="1484280"/>
            <a:ext cx="5400720" cy="2016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76360" y="350028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50068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24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Layer (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124000" y="3573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68360" y="2276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19280" y="668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 im DoD-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03640" y="4543560"/>
            <a:ext cx="136872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219640" y="45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03640" y="3933720"/>
            <a:ext cx="1368720" cy="287280"/>
          </a:xfrm>
          <a:prstGeom prst="rect">
            <a:avLst/>
          </a:prstGeom>
          <a:solidFill>
            <a:srgbClr val="82e68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51520" y="4403880"/>
            <a:ext cx="1295280" cy="5760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5121000" y="4403880"/>
            <a:ext cx="1082520" cy="5760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148360" y="38671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M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C03-133F-4728-88CE-40EE70C7C570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F3B33-3F0F-4454-8695-BF2328F335A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4653000"/>
            <a:ext cx="5400720" cy="12970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407664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1484280"/>
            <a:ext cx="5400720" cy="2016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3500280"/>
            <a:ext cx="5400720" cy="57636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50068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 Layer (IPv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000" y="3573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2276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668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 im DoD-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4543560"/>
            <a:ext cx="136872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45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3933720"/>
            <a:ext cx="1368720" cy="2872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38829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48B-7EFC-4357-AAAF-4EA0B16A54B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D5A18-B1D0-44A3-BBB5-062BEE2DAD36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v4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v4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762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Pv4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5440" y="2421000"/>
            <a:ext cx="431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6160" y="2421000"/>
            <a:ext cx="323856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637480" cy="576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08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44F-D9DC-4D34-930D-3472F71D383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73CAA-51A4-4638-8216-A8CE8D1C1620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5440" y="2421000"/>
            <a:ext cx="431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6160" y="2421000"/>
            <a:ext cx="323856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112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358-7116-4781-B9C3-FF1D30E66B7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DA327-3C8A-4879-A503-7BFA3B709768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5440" y="2421000"/>
            <a:ext cx="43178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6160" y="2421000"/>
            <a:ext cx="323856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133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689120" y="2168280"/>
            <a:ext cx="1589040" cy="24858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6DC-E2B5-442E-82D1-E27F77B9D8C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9F110-76B8-4423-859F-6A5DB5C2C87E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6160" y="2421000"/>
            <a:ext cx="323856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155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625480" y="2927520"/>
            <a:ext cx="795240" cy="19476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A74-76BF-4190-ADB2-2F9D9FA8C6B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E3651-E056-493E-8244-6ED7AFB18E3D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71628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Zie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4365720"/>
            <a:ext cx="86374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P Quella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773360"/>
            <a:ext cx="107928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013360"/>
            <a:ext cx="575784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177336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177336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3068640"/>
            <a:ext cx="431820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5013360"/>
            <a:ext cx="2880000" cy="647640"/>
          </a:xfrm>
          <a:prstGeom prst="rect">
            <a:avLst/>
          </a:prstGeom>
          <a:solidFill>
            <a:srgbClr val="ccffff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6160" y="2421000"/>
            <a:ext cx="323856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544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3068640"/>
            <a:ext cx="2158920" cy="647640"/>
          </a:xfrm>
          <a:prstGeom prst="rect">
            <a:avLst/>
          </a:prstGeom>
          <a:solidFill>
            <a:srgbClr val="bbe0e3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8637480" cy="6480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icht 2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661000"/>
            <a:ext cx="8637480" cy="647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las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59280" y="476280"/>
            <a:ext cx="5327640" cy="459720"/>
            <a:chOff x="3059280" y="476280"/>
            <a:chExt cx="5327640" cy="459720"/>
          </a:xfrm>
        </p:grpSpPr>
        <p:sp>
          <p:nvSpPr>
            <p:cNvPr id="177" name=""/>
            <p:cNvSpPr/>
            <p:nvPr/>
          </p:nvSpPr>
          <p:spPr>
            <a:xfrm>
              <a:off x="3059280" y="47628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Pv4 Header        IPv6 Head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3640" y="692280"/>
              <a:ext cx="50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3280" y="242100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2421000"/>
            <a:ext cx="43178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f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1773360"/>
            <a:ext cx="1079640" cy="647640"/>
          </a:xfrm>
          <a:prstGeom prst="rect">
            <a:avLst/>
          </a:prstGeom>
          <a:solidFill>
            <a:srgbClr val="ff00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6120" y="98100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6120" y="6046920"/>
            <a:ext cx="8713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419640" y="2917800"/>
            <a:ext cx="1439640" cy="19526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581360"/>
            <a:ext cx="2952720" cy="642600"/>
          </a:xfrm>
          <a:prstGeom prst="rect">
            <a:avLst/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lder, die in IPv6 nicht mehr verwend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v6 Header - P. Maaß, M. Diene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04E-3779-4B85-9329-D2B4417C9EB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981AE-F96E-4EBA-8B98-F8C4BB2EC476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56:46Z</dcterms:created>
  <dc:creator>Maaß</dc:creator>
  <dc:description/>
  <dc:language>en-US</dc:language>
  <cp:lastModifiedBy>Walther Rathenau</cp:lastModifiedBy>
  <dcterms:modified xsi:type="dcterms:W3CDTF">2014-03-10T19:57:47Z</dcterms:modified>
  <cp:revision>35</cp:revision>
  <dc:subject/>
  <dc:title>Folie 1</dc:title>
</cp:coreProperties>
</file>