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F80-F349-4CE4-B416-234B6CF2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B9C-BF8B-405E-B657-0946D056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1F3-ACA6-4B49-9C50-50E40C49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03B-D19E-4FA2-833B-EF6829BE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25E-A7B7-4A70-A570-C06688D8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B5C-52F6-4D55-9264-41CB3DB6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FB0-4E57-47E8-A9C4-AE6E954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1CF-1228-4661-AB3E-CFC921E2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018-2282-4B14-BB13-DE2E0D3A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B61-9618-4080-84D4-88FD00C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FB9-9CAA-4CCA-8AB0-3E1A0A9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4AE-328A-4421-B1E8-267851E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12333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DejaVu Sans"/>
              </a:rPr>
              <a:t>10.03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7640" y="6245280"/>
            <a:ext cx="5326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245280"/>
            <a:ext cx="1089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87550B-01A6-4603-B362-75138BEFF56D}" type="slidenum">
              <a:rPr b="0" lang="de-DE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41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te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s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to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aussetzungen für die  Auto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  Es ist keine Konfiguration von stateless address autoconfiguration (SLAAC) notwend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Host (auch bei sonst manueller Adressvergabe) muss die SLAAC durchlaufen, um eine link-lokale Adresse zu er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341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sind grundsätzlich keine Voraussetzungen für die Autokonfiguration von IPv6 Adressen notwend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SLAAC                                              Peter Maaß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DF8-ADB7-4AE4-A900-84D6998A64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EFC11-23C5-4005-9EED-F5DB6B8A9ACA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16360" y="3933720"/>
            <a:ext cx="3456000" cy="1081080"/>
          </a:xfrm>
          <a:prstGeom prst="wedgeRectCallout">
            <a:avLst>
              <a:gd name="adj1" fmla="val -41916"/>
              <a:gd name="adj2" fmla="val -98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gbour Solicitation-Nach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t schon jemand die Adresse fe80::0222:cdff:fefc:e33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blauf von SLAAC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. link lokale Ad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2419200"/>
            <a:ext cx="59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339920"/>
            <a:ext cx="3233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: 00:22:cd:fc:e3: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205000"/>
            <a:ext cx="144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73360" y="2349360"/>
            <a:ext cx="990360" cy="574920"/>
          </a:xfrm>
          <a:custGeom>
            <a:avLst/>
            <a:gdLst>
              <a:gd name="textAreaLeft" fmla="*/ 495000 w 990360"/>
              <a:gd name="textAreaRight" fmla="*/ 990360 w 990360"/>
              <a:gd name="textAreaTop" fmla="*/ 0 h 574920"/>
              <a:gd name="textAreaBottom" fmla="*/ 574920 h 5749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1078911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8911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9120" y="241452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8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:0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:c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f:f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c:e3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500280"/>
            <a:ext cx="3671640" cy="1297080"/>
          </a:xfrm>
          <a:prstGeom prst="wedgeRectCallout">
            <a:avLst>
              <a:gd name="adj1" fmla="val -33787"/>
              <a:gd name="adj2" fmla="val -97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500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34750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s ist die link-locale Adresse. Sie besteht aus dem Präfix fe80::/10 und einem Interface Identifier nachEUI-6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6920" y="3139920"/>
            <a:ext cx="32418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2276640"/>
            <a:ext cx="144360" cy="27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306864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blicate Address Detection Paket (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73360" y="4078440"/>
            <a:ext cx="990360" cy="574560"/>
          </a:xfrm>
          <a:custGeom>
            <a:avLst/>
            <a:gdLst>
              <a:gd name="textAreaLeft" fmla="*/ 495000 w 990360"/>
              <a:gd name="textAreaRight" fmla="*/ 990360 w 99036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1078911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8911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7680" y="4214880"/>
            <a:ext cx="32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8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:0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:c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f:f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c:e3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42418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ntwort erhalten: Die IP-Adresse kann übernommen und verwende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5589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mit hat der Host eine link locale Adresse und kann mit allen Hosts an diesem Link kommunizi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4060800"/>
            <a:ext cx="45356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 ist erstmal nur vorläu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SLAAC                                              Peter Maaß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D3F-44CE-45D8-AE8F-BF000753C6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CBF4F-3006-4F38-B534-88018AAA174F}" type="datetime1">
              <a:rPr lang="en-US"/>
              <a:t>07/29/26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blauf von SLAAC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2. globale Adresse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1627200"/>
            <a:ext cx="3233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: 00:22:cd:fc:e3: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2492280"/>
            <a:ext cx="144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7879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2563920"/>
            <a:ext cx="14472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6480" y="1628640"/>
            <a:ext cx="3233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: 00:33:ad:02:e3: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2492280"/>
            <a:ext cx="144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2563920"/>
            <a:ext cx="14472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74560" y="2708280"/>
            <a:ext cx="53305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357720"/>
            <a:ext cx="3311640" cy="1511280"/>
          </a:xfrm>
          <a:prstGeom prst="wedgeRectCallout">
            <a:avLst>
              <a:gd name="adj1" fmla="val -35763"/>
              <a:gd name="adj2" fmla="val -68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 (Router Advertisem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gelmäßige Nachricht von einem Router. Enthält Informationen zur Weiteren K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SLAAC                                              Peter Maaß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C92-439A-41F6-8DBC-226980B77A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FC92E-F0B6-4127-B722-5AF7BE2778D1}" type="datetime1">
              <a:rPr lang="en-US"/>
              <a:t>07/29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´s ent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Information wie die Autokonfiguration weitergehen soll (SLAAC oder DH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SLAAC die Angabe des Präfixes sowie die Länge des Prefixes. Die letzten 64 Bit sind wieder die EUI-64 konforme Interface-I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Information ob zusätzlich zu SLAAC auch noch eine DHCP-Adresse konfiguriert werden s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blauf von SLAAC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(globale Adresse(n)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SLAAC                                              Peter Maaß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A20-F452-4A03-B007-8B2DA3D123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58A4B-2A7D-4E9B-B343-94F75D2232CB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blauf von SLAAC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(globale Adresse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627200"/>
            <a:ext cx="3233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: 00:22:cd:fc:e3: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2492280"/>
            <a:ext cx="144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37879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0360" y="2563920"/>
            <a:ext cx="14472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86480" y="1628640"/>
            <a:ext cx="3233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: 00:33:ad:02:e3: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2492280"/>
            <a:ext cx="144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2563920"/>
            <a:ext cx="14472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474560" y="2708280"/>
            <a:ext cx="5330520" cy="360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3213000"/>
            <a:ext cx="540072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4005360"/>
            <a:ext cx="2158920" cy="718920"/>
          </a:xfrm>
          <a:prstGeom prst="wedgeRectCallout">
            <a:avLst>
              <a:gd name="adj1" fmla="val -34115"/>
              <a:gd name="adj2" fmla="val -182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 muss nicht abgewar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078440"/>
            <a:ext cx="2665440" cy="934920"/>
          </a:xfrm>
          <a:prstGeom prst="wedgeRectCallout">
            <a:avLst>
              <a:gd name="adj1" fmla="val -61675"/>
              <a:gd name="adj2" fmla="val -122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S (Router Solicitation) zur Suche eines Routers im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74560" y="4005360"/>
            <a:ext cx="53305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4761000"/>
            <a:ext cx="3167280" cy="1008000"/>
          </a:xfrm>
          <a:prstGeom prst="wedgeRectCallout">
            <a:avLst>
              <a:gd name="adj1" fmla="val -58319"/>
              <a:gd name="adj2" fmla="val -939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 mit den notwendigen Präfix-Informationen für den Client (Bsp.: 2001:db8::/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7920" y="4583160"/>
            <a:ext cx="990720" cy="574560"/>
          </a:xfrm>
          <a:custGeom>
            <a:avLst/>
            <a:gdLst>
              <a:gd name="textAreaLeft" fmla="*/ 495360 w 990720"/>
              <a:gd name="textAreaRight" fmla="*/ 990720 w 99072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1078911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8911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5300640"/>
            <a:ext cx="4176720" cy="863640"/>
          </a:xfrm>
          <a:prstGeom prst="wedgeRectCallout">
            <a:avLst>
              <a:gd name="adj1" fmla="val -34722"/>
              <a:gd name="adj2" fmla="val -84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Präfix-Information und EUI-64 Identifier  wird die IPv6-Adresse gebil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0920" y="46530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001:db8::0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2:cdff:fefc:e3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66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mit hat der Client eine globale, weltweit eindeutige  IPv6 Adresse und kann somit mit dem IPv6-Netzwerk kommuni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4560" y="2708280"/>
            <a:ext cx="53305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- SLAAC                                              Peter Maaß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D9C-15E7-446A-BFD1-2845A23F88D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65776-A170-4AA2-8EF3-4988769BF874}" type="datetime1">
              <a:rPr lang="en-US"/>
              <a:t>07/29/26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7:28:42Z</dcterms:created>
  <dc:creator>m</dc:creator>
  <dc:description/>
  <dc:language>en-US</dc:language>
  <cp:lastModifiedBy>M</cp:lastModifiedBy>
  <dcterms:modified xsi:type="dcterms:W3CDTF">2008-06-10T10:05:50Z</dcterms:modified>
  <cp:revision>49</cp:revision>
  <dc:subject/>
  <dc:title>IPv6</dc:title>
</cp:coreProperties>
</file>