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873D-4F55-490B-9E9E-C43642C6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25640"/>
            <a:ext cx="8228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55BB-2460-491B-8A03-376946AE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25640"/>
            <a:ext cx="40150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725640"/>
            <a:ext cx="40150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885A-3C66-45B8-879B-A64C68C3A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25640"/>
            <a:ext cx="2649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725640"/>
            <a:ext cx="2649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725640"/>
            <a:ext cx="26492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CC1B-AD10-43B4-A640-AE84669EB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A04F-7716-4610-AF0F-98E7E67A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BED0-79C8-43BD-81D5-496E3C20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384D-A9BB-45EC-A184-7737AC23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3918-61C8-4128-831A-C38375AB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9881-FC61-4A0D-9F64-EDBDEB59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25640"/>
            <a:ext cx="40150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FE2E-DBC0-44A6-9545-A3DE3298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725640"/>
            <a:ext cx="40150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4B17-5BF2-4587-9C0B-68B79888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25640"/>
            <a:ext cx="822816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8938-182A-40E7-BA8E-DE914AA2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9C3589-EB5C-49A5-A40D-E5256F913BB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836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UI-64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116000" y="836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UI-64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305000"/>
            <a:ext cx="7848360" cy="28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e Interface-ID in einer IPv6 Adresse identifiziert ein einzelnes Endgerät an einem Link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ie muss 64 Bit lang se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ie entsteht z.B. bei Ethernet aus der 48 Bit langen Link-Layer-Adresse (MAC-Adresse), in die die hexadezimale Nummer FFFE eingefügt wi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s l/g-Bit im high-Order Byte wird auf 1 gesetz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14560" y="4724280"/>
            <a:ext cx="39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00:23:AA: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FF:FE: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D:E1: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16360" y="4737240"/>
            <a:ext cx="431640" cy="43164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79640" y="5589720"/>
            <a:ext cx="1800000" cy="529920"/>
          </a:xfrm>
          <a:prstGeom prst="wedgeRectCallout">
            <a:avLst>
              <a:gd name="adj1" fmla="val 53416"/>
              <a:gd name="adj2" fmla="val -1559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000 00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16000" y="836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UI-64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4360" y="1305000"/>
            <a:ext cx="7848360" cy="28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e Interface-ID in einer IPv6 Adresse identifiziert ein einzelnes Endgerät an einem Link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ie muss 64 Bit lang se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ie entsteht z.B. bei Ethernet aus der 48 Bit langen Link-Layer-Adresse (MAC-Adresse), in die die hexadezimale Nummer FFFE eingefügt wi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s l/g-Bit im high-Order Byte wird auf 1 gesetz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16360" y="4737240"/>
            <a:ext cx="431640" cy="43164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79640" y="5589720"/>
            <a:ext cx="1800000" cy="529920"/>
          </a:xfrm>
          <a:prstGeom prst="wedgeRectCallout">
            <a:avLst>
              <a:gd name="adj1" fmla="val 53416"/>
              <a:gd name="adj2" fmla="val -1559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000 00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14560" y="471816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:23:AA:FF:FE:CD:E1: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16000" y="836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UI-64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305000"/>
            <a:ext cx="7848360" cy="28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e Interface-ID in einer IPv6 Adresse identifiziert ein einzelnes Endgerät an einem Link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ie muss 64 Bit lang se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ie entsteht z.B. bei Ethernet aus der 48 Bit langen Link-Layer-Adresse (MAC-Adresse), in die die hexadezimale Nummer FFFE eingefügt wi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s l/g-Bit im high-Order Byte wird auf 1 gesetz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14560" y="471816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:23:AA:FF:FE:CD:E1: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16000" y="836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UI-64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1305000"/>
            <a:ext cx="784836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e Interface-ID in einer IPv6 Adresse identifiziert ein einzelnes Endgerät an einem Link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16000" y="836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UI-64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1305000"/>
            <a:ext cx="7848360" cy="17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e Interface-ID in einer IPv6 Adresse identifiziert ein einzelnes Endgerät an einem Link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ie muss 64 Bit lang se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16000" y="836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UI-64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1305000"/>
            <a:ext cx="7848360" cy="28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e Interface-ID in einer IPv6 Adresse identifiziert ein einzelnes Endgerät an einem Link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ie muss 64 Bit lang se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ie entsteht z.B. bei Ethernet aus der 48 Bit langen Link-Layer-Adresse (MAC-Adresse), in die die hexadezimale Nummer FFFE eingefügt wi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16000" y="836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UI-64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1305000"/>
            <a:ext cx="7848360" cy="28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e Interface-ID in einer IPv6 Adresse identifiziert ein einzelnes Endgerät an einem Link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ie muss 64 Bit lang se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ie entsteht z.B. bei Ethernet aus der 48 Bit langen Link-Layer-Adresse (MAC-Adresse), in die die hexadezimale Nummer FFFE eingefügt wi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14560" y="4732200"/>
            <a:ext cx="32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00:23:AA:CD:E1: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5740560"/>
            <a:ext cx="3311640" cy="558720"/>
          </a:xfrm>
          <a:prstGeom prst="wedgeRectCallout">
            <a:avLst>
              <a:gd name="adj1" fmla="val -50509"/>
              <a:gd name="adj2" fmla="val -1589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sp.: MAC-Adres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16000" y="836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UI-64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1305000"/>
            <a:ext cx="7848360" cy="28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e Interface-ID in einer IPv6 Adresse identifiziert ein einzelnes Endgerät an einem Link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ie muss 64 Bit lang se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ie entsteht z.B. bei Ethernet aus der 48 Bit langen Link-Layer-Adresse (MAC-Adresse), in die die hexadezimale Nummer FFFE eingefügt wi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14560" y="4732200"/>
            <a:ext cx="32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00:23:AA:CD:E1: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3942720" y="4104000"/>
            <a:ext cx="215640" cy="1040040"/>
          </a:xfrm>
          <a:custGeom>
            <a:avLst/>
            <a:gdLst>
              <a:gd name="textAreaLeft" fmla="*/ 137880 w 215640"/>
              <a:gd name="textAreaRight" fmla="*/ 216000 w 21564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518"/>
                </a:lnTo>
                <a:cubicBezTo>
                  <a:pt x="10800" y="10518"/>
                  <a:pt x="5400" y="10518"/>
                  <a:pt x="0" y="10518"/>
                </a:cubicBezTo>
                <a:cubicBezTo>
                  <a:pt x="5400" y="10518"/>
                  <a:pt x="10800" y="10518"/>
                  <a:pt x="10800" y="10518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27360" y="4149720"/>
            <a:ext cx="12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FF:F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16000" y="836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UI-64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1305000"/>
            <a:ext cx="7848360" cy="28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e Interface-ID in einer IPv6 Adresse identifiziert ein einzelnes Endgerät an einem Link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ie muss 64 Bit lang se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ie entsteht z.B. bei Ethernet aus der 48 Bit langen Link-Layer-Adresse (MAC-Adresse), in die die hexadezimale Nummer FFFE eingefügt wi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14560" y="4718160"/>
            <a:ext cx="39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00:23:AA: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FF:FE: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D:E1: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16000" y="836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UI-64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1305000"/>
            <a:ext cx="7848360" cy="28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e Interface-ID in einer IPv6 Adresse identifiziert ein einzelnes Endgerät an einem Link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ie muss 64 Bit lang se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ie entsteht z.B. bei Ethernet aus der 48 Bit langen Link-Layer-Adresse (MAC-Adresse), in die die hexadezimale Nummer FFFE eingefügt wi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s l/g-Bit im high-Order Byte wird auf 1 gesetz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14560" y="4724280"/>
            <a:ext cx="39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00:23:AA: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FF:FE: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D:E1: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16000" y="836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UI-64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1305000"/>
            <a:ext cx="7848360" cy="28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e Interface-ID in einer IPv6 Adresse identifiziert ein einzelnes Endgerät an einem Link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ie muss 64 Bit lang se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ie entsteht z.B. bei Ethernet aus der 48 Bit langen Link-Layer-Adresse (MAC-Adresse), in die die hexadezimale Nummer FFFE eingefügt wi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s l/g-Bit im high-Order Byte wird auf 1 gesetz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14560" y="4724280"/>
            <a:ext cx="39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00:23:AA: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FF:FE: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D:E1: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60360" y="5589720"/>
            <a:ext cx="1619280" cy="529920"/>
          </a:xfrm>
          <a:prstGeom prst="wedgeRectCallout">
            <a:avLst>
              <a:gd name="adj1" fmla="val 53796"/>
              <a:gd name="adj2" fmla="val -1559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000 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737240"/>
            <a:ext cx="431640" cy="43164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05:45:01Z</dcterms:created>
  <dc:creator>Maaß</dc:creator>
  <dc:description/>
  <dc:language>en-US</dc:language>
  <cp:lastModifiedBy>Walther Rathenau</cp:lastModifiedBy>
  <dcterms:modified xsi:type="dcterms:W3CDTF">2014-03-10T20:42:22Z</dcterms:modified>
  <cp:revision>20</cp:revision>
  <dc:subject/>
  <dc:title>Folie 1</dc:title>
</cp:coreProperties>
</file>