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8FB6-69C4-43CA-ABDE-4546A6D31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4E58-53B1-4787-A3D3-BB57E9BEE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17DF-EA1E-4C33-B533-2163D7EE8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535E-40C1-4CB5-89B6-180009057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5C0E-CDA5-4E7B-A7C3-5850394D4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EC3B-7B85-43FA-9AAF-38E421053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DA39-430E-4B34-8F3A-467EC2EF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9234-000E-4AEF-9475-D7CE50F70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1C69-8974-42D9-BBB4-385D737AE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7508-D075-4653-8D95-B396D4EA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8CBC-486A-46B3-8737-FE2FA1DE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FF6B-1FAD-4D48-98F1-35538E4A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1C464B-368F-4AF5-B808-D5893AA2BE52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CE0B5F-14C4-452A-A9B3-9159EA53166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60720" y="720720"/>
            <a:ext cx="48592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IPv6 – vier Gründe dafür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v6 - vier Gründe dafür                              P. Maaß, M. Diener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4569BC-7767-4788-988C-A8A07B83C1C3}" type="datetime1">
              <a:rPr lang="en-US"/>
              <a:t>07/29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160720" y="720720"/>
            <a:ext cx="48592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IPv6 – vier Gründe dafür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71640" y="1224000"/>
            <a:ext cx="80992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3: IPv6 bietet eingebaute Sicherheitsfunktion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v6 - vier Gründe dafür                              P. Maaß, M. Diener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39EAAE-1873-4D9B-8FF2-3F5A21113197}" type="datetime1">
              <a:rPr lang="en-US"/>
              <a:t>07/29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160720" y="720720"/>
            <a:ext cx="48592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IPv6 – vier Gründe dafür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71640" y="1224000"/>
            <a:ext cx="80992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3: IPv6 bietet eingebaute Sicherheitsfunktion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1584360"/>
            <a:ext cx="727236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Pv4 ist ein grundsätzlich unsicheres Protokoll. Sicherheit muss zusätzlich implementiert werden. Bei IPv6 hat man mit IPSec diese Sicherheit gleich mit eingeba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v6 - vier Gründe dafür                              P. Maaß, M. Diener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4BB757-3CC1-4EF8-AB23-D7D90D09FE1E}" type="datetime1">
              <a:rPr lang="en-US"/>
              <a:t>07/29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160720" y="720720"/>
            <a:ext cx="48592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IPv6 – vier Gründe dafür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71640" y="1224000"/>
            <a:ext cx="80992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3: IPv6 bietet eingebaute Sicherheitsfunktion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19280" y="1584360"/>
            <a:ext cx="727236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Pv4 ist ein grundsätzlich unsicheres Protokoll. Sicherheit muss zusätzlich implementiert werden. Bei IPv6 hat man mit IPSec diese Sicherheit gleich mit eingeba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9280" y="2879640"/>
            <a:ext cx="727236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se Sicherheit hat die Entwicklung von IPv6 z.B. in embedded Systemen weitestgehend verhindert. Deshalb ist die zwingende Implementierung von IPSec bei IPv6 wieder abgeschafft worden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v6 - vier Gründe dafür                              P. Maaß, M. Diener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CB5899-9663-416B-88E2-2A610CEA8E4E}" type="datetime1">
              <a:rPr lang="en-US"/>
              <a:t>07/29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160720" y="720720"/>
            <a:ext cx="48592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IPv6 – vier Gründe dafür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1224000"/>
            <a:ext cx="80992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3: IPv6 bietet eingebaute Sicherheitsfunktion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19280" y="1584360"/>
            <a:ext cx="727236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Pv4 ist ein grundsätzlich unsicheres Protokoll. Sicherheit muss zusätzlich implementiert werden. Bei IPv6 hat man mit IPSec diese Sicherheit gleich mit eingeba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19280" y="2879640"/>
            <a:ext cx="727236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se Sicherheit hat die Entwicklung von IPv6 z.B. in embedded Systemen weitestgehend verhindert. Deshalb ist die zwingende Implementierung von IPSec bei IPv6 wieder abgeschafft worden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60360" y="1044720"/>
            <a:ext cx="7740720" cy="1800000"/>
          </a:xfrm>
          <a:custGeom>
            <a:avLst/>
            <a:gdLst/>
            <a:ahLst/>
            <a:rect l="l" t="t" r="r" b="b"/>
            <a:pathLst>
              <a:path w="21501" h="5001">
                <a:moveTo>
                  <a:pt x="0" y="0"/>
                </a:moveTo>
                <a:lnTo>
                  <a:pt x="21500" y="5000"/>
                </a:lnTo>
              </a:path>
            </a:pathLst>
          </a:custGeom>
          <a:noFill/>
          <a:ln w="144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60360" y="1116000"/>
            <a:ext cx="6840720" cy="1620720"/>
          </a:xfrm>
          <a:custGeom>
            <a:avLst/>
            <a:gdLst/>
            <a:ahLst/>
            <a:rect l="l" t="t" r="r" b="b"/>
            <a:pathLst>
              <a:path w="19001" h="4501">
                <a:moveTo>
                  <a:pt x="0" y="4500"/>
                </a:moveTo>
                <a:lnTo>
                  <a:pt x="19000" y="0"/>
                </a:lnTo>
              </a:path>
            </a:pathLst>
          </a:custGeom>
          <a:noFill/>
          <a:ln w="144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v6 - vier Gründe dafür                              P. Maaß, M. Diener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FF27C2-4B0C-4AE9-AE80-62B7824D8B06}" type="datetime1">
              <a:rPr lang="en-US"/>
              <a:t>07/29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160720" y="720720"/>
            <a:ext cx="48592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IPv6 – vier Gründe dafür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71640" y="1260360"/>
            <a:ext cx="80992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4: IPv6 bietet eine einfache Verwaltung des Netz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v6 - vier Gründe dafür                              P. Maaß, M. Diener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58512D-7B74-4B12-9717-904A28FB4974}" type="datetime1">
              <a:rPr lang="en-US"/>
              <a:t>07/29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160720" y="720720"/>
            <a:ext cx="48592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IPv6 – vier Gründe dafür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1260360"/>
            <a:ext cx="80992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4: IPv6 bietet eine einfache Verwaltung des Netz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19280" y="1584360"/>
            <a:ext cx="7272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Konfiguration von Knoten ist ohne eine speziellen Server mögli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v6 - vier Gründe dafür                              P. Maaß, M. Diener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0D4491-2254-47E3-80AA-AEE440DA7D7E}" type="datetime1">
              <a:rPr lang="en-US"/>
              <a:t>07/29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160720" y="720720"/>
            <a:ext cx="48592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IPv6 – vier Gründe dafür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1224000"/>
            <a:ext cx="48592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1: Es gibt viel mehr Adressen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v6 - vier Gründe dafür                              P. Maaß, M. Diener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FA09D1-0DC0-438A-977F-B7D10E48AE08}" type="datetime1">
              <a:rPr lang="en-US"/>
              <a:t>07/29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160720" y="720720"/>
            <a:ext cx="48592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IPv6 – vier Gründe dafür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71640" y="1224000"/>
            <a:ext cx="48592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1: Es gibt viel mehr Adressen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1619280"/>
            <a:ext cx="774072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Pv4: 2</a:t>
            </a:r>
            <a:r>
              <a:rPr b="1" lang="de-DE" sz="2000" spc="-1" strike="noStrike" baseline="33000">
                <a:solidFill>
                  <a:srgbClr val="000000"/>
                </a:solidFill>
                <a:latin typeface="Arial"/>
              </a:rPr>
              <a:t>32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dressen                                           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(ca 4 300 000 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v6 - vier Gründe dafür                              P. Maaß, M. Diener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80D049-312B-4000-B13E-3EC48FB240CD}" type="datetime1">
              <a:rPr lang="en-US"/>
              <a:t>07/29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60720" y="720720"/>
            <a:ext cx="48592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IPv6 – vier Gründe dafür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224000"/>
            <a:ext cx="48592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1: Es gibt viel mehr Adressen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19280" y="1619280"/>
            <a:ext cx="774072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Pv4: 2</a:t>
            </a:r>
            <a:r>
              <a:rPr b="1" lang="de-DE" sz="2000" spc="-1" strike="noStrike" baseline="33000">
                <a:solidFill>
                  <a:srgbClr val="000000"/>
                </a:solidFill>
                <a:latin typeface="Arial"/>
              </a:rPr>
              <a:t>32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dressen                                           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(ca 4 300 000 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Pv6: 2</a:t>
            </a:r>
            <a:r>
              <a:rPr b="1" lang="de-DE" sz="2000" spc="-1" strike="noStrike" baseline="33000">
                <a:solidFill>
                  <a:srgbClr val="000000"/>
                </a:solidFill>
                <a:latin typeface="Arial"/>
              </a:rPr>
              <a:t>128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dressen  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(ca 340 000 000 000 000 000 000 000 000 000 000 000 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v6 - vier Gründe dafür                              P. Maaß, M. Diener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1B6058-18F5-4DAA-ABB9-ACD8DD460828}" type="datetime1">
              <a:rPr lang="en-US"/>
              <a:t>07/29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160720" y="720720"/>
            <a:ext cx="48592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IPv6 – vier Gründe dafür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71640" y="1224000"/>
            <a:ext cx="48592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1: Es gibt viel mehr Adressen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19280" y="1619280"/>
            <a:ext cx="774072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Pv4: 2</a:t>
            </a:r>
            <a:r>
              <a:rPr b="1" lang="de-DE" sz="2000" spc="-1" strike="noStrike" baseline="33000">
                <a:solidFill>
                  <a:srgbClr val="000000"/>
                </a:solidFill>
                <a:latin typeface="Arial"/>
              </a:rPr>
              <a:t>32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dressen                                           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(ca 4 300 000 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Pv6: 2</a:t>
            </a:r>
            <a:r>
              <a:rPr b="1" lang="de-DE" sz="2000" spc="-1" strike="noStrike" baseline="33000">
                <a:solidFill>
                  <a:srgbClr val="000000"/>
                </a:solidFill>
                <a:latin typeface="Arial"/>
              </a:rPr>
              <a:t>128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dressen     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(ca 340 000 000 000 000 000 000 000 000 000 000 000 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m Vergleich zu IPv4 gibt es 2</a:t>
            </a:r>
            <a:r>
              <a:rPr b="1" lang="de-DE" sz="2000" spc="-1" strike="noStrike" baseline="33000">
                <a:solidFill>
                  <a:srgbClr val="000000"/>
                </a:solidFill>
                <a:latin typeface="Arial"/>
              </a:rPr>
              <a:t>96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IPv6-Adressen meh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mit kann die IP-Adressknappheit beseitigt werd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v6 - vier Gründe dafür                              P. Maaß, M. Diener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AB4B69-DEB0-48B4-BA18-595C343EBBDF}" type="datetime1">
              <a:rPr lang="en-US"/>
              <a:t>07/29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160720" y="720720"/>
            <a:ext cx="48592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IPv6 – vier Gründe dafür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1640" y="1297080"/>
            <a:ext cx="809928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2: Das Routing bei IPv6 kann wesentlich effizien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gestaltet werde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v6 - vier Gründe dafür                              P. Maaß, M. Diener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9CC432-B34B-429D-88C0-49608CB1F024}" type="datetime1">
              <a:rPr lang="en-US"/>
              <a:t>07/29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160720" y="720720"/>
            <a:ext cx="48592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IPv6 – vier Gründe dafür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71640" y="1297080"/>
            <a:ext cx="809928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2: Das Routing bei IPv6 kann wesentlich effizien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gestaltet werde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19280" y="1979640"/>
            <a:ext cx="727236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i IPv4 wurden die Adressen ohne räumliche Zuordnung verteilt. Man kann also keine Aussage dazu machen wohin (auf der Landkarte) einer IPv4 Adresse gehört. Bei IPv6 hat man – so die Literatur – darauf geacht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v6 - vier Gründe dafür                              P. Maaß, M. Diener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72648D-6F9A-4D29-9612-87464645DB80}" type="datetime1">
              <a:rPr lang="en-US"/>
              <a:t>07/29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119640" y="6629400"/>
            <a:ext cx="18655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400:0000::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95880" y="4575240"/>
            <a:ext cx="186048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a00:0000::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303640" y="5838840"/>
            <a:ext cx="19443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800:0000::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74800" y="4429080"/>
            <a:ext cx="200520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600:0000::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316400" y="5851440"/>
            <a:ext cx="187632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c00:0000::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60720" y="720720"/>
            <a:ext cx="48592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IPv6 – vier Gründe dafür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71640" y="1297080"/>
            <a:ext cx="809928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2: Das Routing bei IPv6 kann wesentlich effizien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gestaltet werde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1979640"/>
            <a:ext cx="727236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i IPv4 wurden die Adressen ohne räumliche Zuordnung verteilt. Man kann also keine Aussage dazu machen wohin (auf der Landkarte) einer IPv4 Adresse gehört. Bei IPv6 hat man – so die Literatur – darauf geacht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v6 - vier Gründe dafür                              P. Maaß, M. Diener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5E2FF4-C70E-45D5-A772-1376C0949C2F}" type="datetime1">
              <a:rPr lang="en-US"/>
              <a:t>07/29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619280" y="3311640"/>
            <a:ext cx="6316560" cy="3870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119640" y="6629400"/>
            <a:ext cx="18655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400:0000::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95880" y="4575240"/>
            <a:ext cx="186048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a00:0000::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03640" y="5838840"/>
            <a:ext cx="1809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800:0000::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74800" y="4429080"/>
            <a:ext cx="200520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600:0000::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316400" y="5851440"/>
            <a:ext cx="19479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c00:0000::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60720" y="720720"/>
            <a:ext cx="48592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IPv6 – vier Gründe dafür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71640" y="1297080"/>
            <a:ext cx="809928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2: Das Routing bei IPv6 kann wesentlich effizien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gestaltet werde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1979640"/>
            <a:ext cx="727236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i IPv4 wurden die Adressen ohne räumliche Zuordnung verteilt. Man kann also keine Aussage dazu machen wohin (auf der Landkarte) einer IPv4 Adresse gehört. Bei IPv6 hat man – so die Literatur – darauf geacht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v6 - vier Gründe dafür                              P. Maaß, M. Diener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564F2F-6ED4-4E4D-A7EE-54E7617C5FFE}" type="datetime1">
              <a:rPr lang="en-US"/>
              <a:t>07/29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2T16:30:05Z</dcterms:created>
  <dc:creator>peter maass</dc:creator>
  <dc:description/>
  <dc:language>en-US</dc:language>
  <cp:lastModifiedBy>Walther Rathenau</cp:lastModifiedBy>
  <dcterms:modified xsi:type="dcterms:W3CDTF">2014-03-10T20:31:02Z</dcterms:modified>
  <cp:revision>7</cp:revision>
  <dc:subject/>
  <dc:title>Folie 1</dc:title>
</cp:coreProperties>
</file>